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1C43-73B8-46A3-B68F-C656B3101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940E-F779-4E6B-B383-382BB1CE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4BA9-486F-490F-BA26-119DCFFA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CB53-3529-4188-96BF-F5A59CE05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1712-3BB4-4182-A2F3-96776483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678-E8F4-4E1F-87F9-7446434D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3591-2C00-417D-8D55-4533F12C1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76D5-B1C9-4F9F-94A4-1D8D2E27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339-124C-4E18-B572-6D4D6FE8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02F-A93E-4B9C-89CD-602854B7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0F55-85BB-4774-A27F-1223465C9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F473-3327-4548-93B6-CE0EA29D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941-1003-440A-A97C-7FEDD118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318-67B6-41D1-B84D-10BB3AD1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0FCC-EC2F-4587-BB9C-F83A81F7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D8DD-02FB-4124-9D97-5B0748E4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362-2F41-494C-8ADA-EDF3D00B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3A2B-4696-4981-863B-E65B1A64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0EB9-7781-42A4-9AB9-C0D13AE66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2D1D-452E-4368-A847-B6D4F957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327D-817D-4831-9551-DE267306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680-E3DD-4750-A0C8-981E51F8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0C75-AD80-41E5-AD84-078F5C38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B9D4-147F-4BA2-AB01-0D7DCBBF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00D-F4AE-49E6-9A4C-A3A7E35A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612-8A12-44E2-AD61-F4716685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9031-565C-4648-A3C8-E3070815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219-0A4A-4642-990C-3DBB586B1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9F5-13E6-4845-B5C2-B478E93C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502-5167-417F-9431-6F7BDB71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818-585D-465C-BEEC-EBFA5EFA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F30-1756-4BF0-8A3A-5208D491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476-1EF3-4F36-A3B0-D284CBA1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F457-4CE8-43E7-87D3-5320141A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405A-1558-4326-9C12-CCBF9574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354B-13A3-40DF-925B-A542B3C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2CC-92BA-4962-A0D0-A8F6EDD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AA3A-ADFB-40E4-A9AD-CFA6AF1A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FD9E-8C61-477A-9868-2057CB1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44E2-4C79-4251-BBC6-2456F4A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F7F-CA28-46BD-A5AE-DDA5D456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9A20-E9E4-45D0-8A7A-0E171E11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AD1-8287-4847-980B-42540AB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3C92-B2AF-4891-BAAD-5178A45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25C-FA9A-4D69-B614-6636CA27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F887-D463-4D51-8054-F31F2B3C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F8B-5541-44DB-85E6-69F6C2A0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92C-0EFF-4F8B-9B22-33A7BB9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DBB-BD8C-4D1C-8CBB-9733E7A9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971-A8F8-4FD5-9D87-F282C361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DE8-197F-4554-9039-D5A7BD0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204-08BF-4B75-BE11-625D1C6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4D0-D4E3-4E28-A970-39FC2E1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A046-FA84-4416-B5D1-7376C8B306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6DDB-8397-4444-AC6D-E7797E1089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Kristen ITC"/>
              </a:rPr>
              <a:t>Halloween Math Center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304955"/>
          <p:cNvPicPr/>
          <p:nvPr/>
        </p:nvPicPr>
        <p:blipFill>
          <a:blip r:embed="rId1"/>
          <a:stretch/>
        </p:blipFill>
        <p:spPr>
          <a:xfrm>
            <a:off x="0" y="0"/>
            <a:ext cx="213372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39061"/>
          <p:cNvPicPr/>
          <p:nvPr/>
        </p:nvPicPr>
        <p:blipFill>
          <a:blip r:embed="rId2"/>
          <a:stretch/>
        </p:blipFill>
        <p:spPr>
          <a:xfrm>
            <a:off x="6019920" y="2362320"/>
            <a:ext cx="2320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Sweet Pictograph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 returned from trick-or-treat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lots of candy.  Help Sara sor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candy.  Create a pictograph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lay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32048"/>
          <p:cNvPicPr/>
          <p:nvPr/>
        </p:nvPicPr>
        <p:blipFill>
          <a:blip r:embed="rId1"/>
          <a:stretch/>
        </p:blipFill>
        <p:spPr>
          <a:xfrm>
            <a:off x="762120" y="2743200"/>
            <a:ext cx="197172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285598"/>
          <p:cNvPicPr/>
          <p:nvPr/>
        </p:nvPicPr>
        <p:blipFill>
          <a:blip r:embed="rId2"/>
          <a:stretch/>
        </p:blipFill>
        <p:spPr>
          <a:xfrm>
            <a:off x="6781680" y="137160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eet Pictograph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et of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reepy Counting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handful of pumpkin ghost counters in a c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ke the counters in the cup and spill them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counter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re more gho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re more pumpk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 amounts equ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your results.  Write a greater than or less than equation for each time you spill the 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the activity at least more 5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232171"/>
          <p:cNvPicPr/>
          <p:nvPr/>
        </p:nvPicPr>
        <p:blipFill>
          <a:blip r:embed="rId1"/>
          <a:stretch/>
        </p:blipFill>
        <p:spPr>
          <a:xfrm>
            <a:off x="7086600" y="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j0232182"/>
          <p:cNvPicPr/>
          <p:nvPr/>
        </p:nvPicPr>
        <p:blipFill>
          <a:blip r:embed="rId2"/>
          <a:stretch/>
        </p:blipFill>
        <p:spPr>
          <a:xfrm rot="897000">
            <a:off x="5181120" y="4343400"/>
            <a:ext cx="12510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epy Counting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a beans—one side painted orange with 2 triangles for eyes and a zig zag mouth (Jack-o-Lantern face) and one side with 2 black eyes (Gh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heet/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Juice ITC"/>
              </a:rPr>
              <a:t>Haunting Equation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ace a handful of pumpkin ghost counters in a c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ke the counters in the cup and spill them on th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eate an addition or subtraction equation to show how many altogether or how many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rd your equ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on:  Create a word problem for each equ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j0237798"/>
          <p:cNvPicPr/>
          <p:nvPr/>
        </p:nvPicPr>
        <p:blipFill>
          <a:blip r:embed="rId1"/>
          <a:stretch/>
        </p:blipFill>
        <p:spPr>
          <a:xfrm>
            <a:off x="2057400" y="5257800"/>
            <a:ext cx="12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0237799"/>
          <p:cNvPicPr/>
          <p:nvPr/>
        </p:nvPicPr>
        <p:blipFill>
          <a:blip r:embed="rId2"/>
          <a:stretch/>
        </p:blipFill>
        <p:spPr>
          <a:xfrm>
            <a:off x="4038480" y="5181480"/>
            <a:ext cx="1349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unting Equatio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a beans—one side painted orange (Jack-o-Lantern face) and one side with 2 black eyes (Gh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heet/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iller"/>
              </a:rPr>
              <a:t>Frightening Patter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assortment of spooky objects, create a variety of different patterns.  Record your patterns on the paper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C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ABBABB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304953"/>
          <p:cNvPicPr/>
          <p:nvPr/>
        </p:nvPicPr>
        <p:blipFill>
          <a:blip r:embed="rId1"/>
          <a:stretch/>
        </p:blipFill>
        <p:spPr>
          <a:xfrm rot="20515800">
            <a:off x="4191120" y="15192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0304953"/>
          <p:cNvPicPr/>
          <p:nvPr/>
        </p:nvPicPr>
        <p:blipFill>
          <a:blip r:embed="rId2"/>
          <a:stretch/>
        </p:blipFill>
        <p:spPr>
          <a:xfrm rot="20515800">
            <a:off x="5715000" y="22824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j0304953"/>
          <p:cNvPicPr/>
          <p:nvPr/>
        </p:nvPicPr>
        <p:blipFill>
          <a:blip r:embed="rId3"/>
          <a:stretch/>
        </p:blipFill>
        <p:spPr>
          <a:xfrm rot="20515800">
            <a:off x="7238880" y="2282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ghtening Patter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st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 such as bugs, bats, spiders, leav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strips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Spooky Sor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the Halloween objects into groups based on one common attrib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r partner guess the attribute you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the objects by two attributes and have your partner guess the attributes you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j0279296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ky Sorting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to sort—leaves, candy, cr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umpkin Nim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0335889"/>
          <p:cNvPicPr/>
          <p:nvPr/>
        </p:nvPicPr>
        <p:blipFill>
          <a:blip r:embed="rId1"/>
          <a:stretch/>
        </p:blipFill>
        <p:spPr>
          <a:xfrm>
            <a:off x="5715000" y="1143000"/>
            <a:ext cx="2057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gi"/>
              </a:rPr>
              <a:t>Witchy Weighing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t which pumpkin has the greatest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umpkins in order, from the pumpkin with the greatest mass to the pumpkin with the least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 the pumpkins to determine how close your predictions w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mass of each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0285616"/>
          <p:cNvPicPr/>
          <p:nvPr/>
        </p:nvPicPr>
        <p:blipFill>
          <a:blip r:embed="rId1"/>
          <a:stretch/>
        </p:blipFill>
        <p:spPr>
          <a:xfrm>
            <a:off x="6324480" y="609480"/>
            <a:ext cx="205740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chy Weighing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ing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s of various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Cauldron Capaciti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t which container has the            greatest cap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ntainers in order, from the container that will hold the least amount of liquid to the container that will hold the m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capacity of each container to determine how close your predictions w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capacity of each contai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j0279294"/>
          <p:cNvPicPr/>
          <p:nvPr/>
        </p:nvPicPr>
        <p:blipFill>
          <a:blip r:embed="rId1"/>
          <a:stretch/>
        </p:blipFill>
        <p:spPr>
          <a:xfrm>
            <a:off x="6858000" y="1219320"/>
            <a:ext cx="2008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ldron Capacities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 of various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rice, or beans for 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okerman"/>
              </a:rPr>
              <a:t>Measuring Pumpki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 the height, width, and circumference of the pumpkin.  Cut a piece of string to match each of your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the height, width, and circumference of the pumpkin.  Compare the lengths of your string with the actual measurements of the pump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lose were your estim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the height and width of the pumpkin using non-standard units.  Compare your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j0305493"/>
          <p:cNvPicPr/>
          <p:nvPr/>
        </p:nvPicPr>
        <p:blipFill>
          <a:blip r:embed="rId1"/>
          <a:stretch/>
        </p:blipFill>
        <p:spPr>
          <a:xfrm>
            <a:off x="6705720" y="685800"/>
            <a:ext cx="2057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Pumpki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tandard units—paper clips,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Witches’ Stew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own concoction by filling a bag with your favorite go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gon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riveled Sp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ll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 Toe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ch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mpir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j0213482"/>
          <p:cNvPicPr/>
          <p:nvPr/>
        </p:nvPicPr>
        <p:blipFill>
          <a:blip r:embed="rId1"/>
          <a:stretch/>
        </p:blipFill>
        <p:spPr>
          <a:xfrm>
            <a:off x="7010280" y="228600"/>
            <a:ext cx="1730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ches’ Stew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on Scales—Cinnamon Toast Cr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iveled Spiders—Rai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ll Eyes—M &amp; M c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 Toenails—Pea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ch Teeth—Candy 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mpire Blood—Dried Cranberries (Crais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ldrons/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plock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 or spoons to measu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risten ITC"/>
              </a:rPr>
              <a:t>Fabulous Fall Idea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cribe additional ideas you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your math class to engag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ivate your students during the fall sea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0199417"/>
          <p:cNvPicPr/>
          <p:nvPr/>
        </p:nvPicPr>
        <p:blipFill>
          <a:blip r:embed="rId1"/>
          <a:stretch/>
        </p:blipFill>
        <p:spPr>
          <a:xfrm>
            <a:off x="6629400" y="304920"/>
            <a:ext cx="20970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mpkin Nim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epy Crawly Estim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ect one student to be the “Counter” and one student to be the “Estimator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Counter” should count a number of critters and place them in the bag. Do not tell the “Estimator” the secret numb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Estimator” should estimate how many critters are in the bag.  (Be sure to have some critters available to use as a reference.)  They may feel and shake the bag, but they may not open it.  Have the “Estimator” talk about the reasons for their gu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Estimator” should then empty the bag of critters and count them.  How close was the estim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350382"/>
          <p:cNvPicPr/>
          <p:nvPr/>
        </p:nvPicPr>
        <p:blipFill>
          <a:blip r:embed="rId1"/>
          <a:stretch/>
        </p:blipFill>
        <p:spPr>
          <a:xfrm rot="556200">
            <a:off x="7550280" y="0"/>
            <a:ext cx="159372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350379"/>
          <p:cNvPicPr/>
          <p:nvPr/>
        </p:nvPicPr>
        <p:blipFill>
          <a:blip r:embed="rId2"/>
          <a:stretch/>
        </p:blipFill>
        <p:spPr>
          <a:xfrm>
            <a:off x="0" y="228600"/>
            <a:ext cx="180324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epy Crawly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&amp; orange unifix cubes, critters, frogs, etc.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hiller"/>
              </a:rPr>
              <a:t>Spooky Data Collec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 bag of Halloween obj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and count the objects in the ba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representation to display the data (chart, table, pictograph, bar graph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:  Create several questions about your data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188515"/>
          <p:cNvPicPr/>
          <p:nvPr/>
        </p:nvPicPr>
        <p:blipFill>
          <a:blip r:embed="rId1"/>
          <a:stretch/>
        </p:blipFill>
        <p:spPr>
          <a:xfrm>
            <a:off x="7010280" y="838080"/>
            <a:ext cx="151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ky Data Collection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ping cubes, color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hiller"/>
              </a:rPr>
              <a:t>Mysterious Counting Bag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 bag of Hallowee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ty the bag and count the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:  Create your own mystery bag and exchange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188515"/>
          <p:cNvPicPr/>
          <p:nvPr/>
        </p:nvPicPr>
        <p:blipFill>
          <a:blip r:embed="rId1"/>
          <a:stretch/>
        </p:blipFill>
        <p:spPr>
          <a:xfrm>
            <a:off x="7772400" y="838080"/>
            <a:ext cx="1512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sterious Counting Bags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ping cubes, color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floyd</cp:lastModifiedBy>
  <dcterms:modified xsi:type="dcterms:W3CDTF">2012-10-01T17:59:40Z</dcterms:modified>
  <cp:revision>12</cp:revision>
  <dc:subject/>
  <dc:title>Slide 1</dc:title>
</cp:coreProperties>
</file>